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217-CD79-4D37-94F1-FBA27CBB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399-6577-421D-854C-CBD638D6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120-069B-4627-B940-49BCAAB2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353-B0B2-4B04-BEC5-4C0BCC02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D19-447C-4AD5-BC76-706513C9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8B7-D101-4ED3-95A0-EA13A964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0D5-AD1C-41BB-85EE-90FF180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7A9-6E5F-43D2-8469-713DB4CE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4C9-8F22-47B8-BCE5-B946357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66B-A252-4289-952E-AA22BF1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CFA-15F1-4433-9F74-84F7801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875-F06F-4FF8-ADDD-901450AE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7E5AF-63DA-4744-898F-4EAB85D22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on of the verb after certain adverbs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pattern do you notice about these adverbial express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 hav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ever befor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been asked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accept a brib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ever befor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ave I been asked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accept a brib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e h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ard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house when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ard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ad he left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ouse when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e h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o soon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hous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h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ad he lef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hous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h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storm bro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dverbs and adverb phrases, mostl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ith a restrictive or negative sen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mpha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placed first in a sentence and are then followed b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inverted for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frequent of these adverbs and adverb phrases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, seldom, ev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cely, scarcely … wh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ly … when, no sooner … than, nowher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o circumstances, on no accoun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by, only then, only when, only in this way, not till, not only, so neither, 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6160"/>
            <a:ext cx="822960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switch must not be touche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 any accou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 no accoun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ust this swit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 touch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was able to make himself hear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shouting at the top of his lu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On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shouting at the top of his lung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was he ab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make himself he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alize that he had lost his keys till he got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ill he got hom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he realiz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he had lost his ke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18840"/>
            <a:ext cx="82296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hieve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t onl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ole the jewelry, they smashed everyth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t onl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the thiev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l the jewelry, they smashed everyth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becam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spicious that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spiciou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he beco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ad no money and h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ve any friends to borrow fro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ad no money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id he hav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y friends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rite the sentences, placing the adverbs or adverbial phrase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beginning of the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ha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down the receiver with relief than the telephone rang ag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hiev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tt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lized that the police had already surrounded the b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ctor told his patient that he shoul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 no accou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to work until he fully recov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oul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’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ubt his integrity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 one mo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hole truth di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’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come know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ntil many years la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rite the sentences, placing the adverbs or adverbial phrase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beginning of the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ad 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ut down the receiver with relief than the telephone rang ag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tt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d the thieves real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the police had already surrounded the b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ctor told his patient tha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 no accou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turn to work until he fully recov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 one mo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doubt his integr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 until many years la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d the whole tru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come kno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of the sentences, write another sentence as similar as possible in meaning, beginning with the word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villages don’t have regular bus service any more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’s unusual for temperatures to fall below freezing in the south of the country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l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the first time he had ever been in such a predicament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on’t succeed unless you work hard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tarted raining as soon as we stepped outside the door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of the sentences, write another sentence as similar as possible in meaning, beginning with the word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long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o remote villages ha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gular bus service any mo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ld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mperatures f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 freezing in the south of the count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ad he be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such a predica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nly 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har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ll you succe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soon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ad we stepp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ide the door than it started rain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3:50:49Z</dcterms:created>
  <dc:creator>Paul Filippetto</dc:creator>
  <dc:description/>
  <dc:language>en-US</dc:language>
  <cp:lastModifiedBy>Paul Filippetto</cp:lastModifiedBy>
  <dcterms:modified xsi:type="dcterms:W3CDTF">2013-03-10T18:52:12Z</dcterms:modified>
  <cp:revision>13</cp:revision>
  <dc:subject/>
  <dc:title>PowerPoint Presentation</dc:title>
</cp:coreProperties>
</file>